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4.jpeg" ContentType="image/jpeg"/>
  <Override PartName="/ppt/media/image8.png" ContentType="image/png"/>
  <Override PartName="/ppt/media/image39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32.jpeg" ContentType="image/jpeg"/>
  <Override PartName="/ppt/media/image38.jpeg" ContentType="image/jpeg"/>
  <Override PartName="/ppt/media/image12.jpeg" ContentType="image/jpeg"/>
  <Override PartName="/ppt/media/image34.png" ContentType="image/png"/>
  <Override PartName="/ppt/media/image40.jpeg" ContentType="image/jpeg"/>
  <Override PartName="/ppt/media/image41.png" ContentType="image/png"/>
  <Override PartName="/ppt/media/image43.wmf" ContentType="image/x-wmf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B7C8A43C-B047-46E7-AE91-07F8B1FA13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46376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4" marL="1827360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97136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- </a:t>
            </a:r>
            <a:fld id="{5AD4859C-160A-43B8-8443-346C9D5D1C5D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on Llu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: 1235-1315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üst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teo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rs magna, generalis et ultim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9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2539800" cy="2590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3733560" cy="421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onardo da Vinc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5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lkulaatori joon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ehitatud katseeksempla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0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3048120" y="1477800"/>
            <a:ext cx="3174840" cy="1113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3175200" cy="121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7 sajand: sümbolkeeled matemaatik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aloogilisi sümbolkeeli püüti luua loogika jaoks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õik püüdlused ebaõnnestusid (kuni 19 sjandi lõpuni!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1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chickard &amp; Pas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chickard 1625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tis ehitanud olema liitva, lahutava, korrutava, jagava masi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istlik filosoof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laise Pascal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0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line masin: ainult liitis ja lahut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hitas ca 50 tükk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1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413080" cy="26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ibni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aksa filosoo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6-171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i arvuti(1671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liitis, lahutas, korrutas, jag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lõi Boole’ga sarnaneva loogikasüsteemi, mis vajus unus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püüdis luua universaalset sümbolkeelt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lingua characteristica universal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ja seda keelt kasutava nn “arutlemise aritmeetika”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calculus ration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2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0228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glise patent, Henry Mill, 1714, ei ehit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eerika patent: 1829 William Austin Burt Detroid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67, Christopher Latham Sholes, Carlos Glidden, Samual W. Soule leiutis: “Type-Writer“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:  1874 (jalgpedaaliga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holes’ klaviatuur ca 1874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voraki klaviatuur ca 193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2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1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31752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 püssiteha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 Typewriter Co. model No. 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ivil war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"In all history, no nation of mere agriculturists ever made successful  war against a nation of mechanics. . . .You are bound to fail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Union officer William Tecumseh Sherman to a Southern frien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3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457200" y="1338120"/>
            <a:ext cx="3125880" cy="3006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4343400" y="1201680"/>
            <a:ext cx="479268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he invention of interchang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parts.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chines which would produc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from a preshaped mold, the vario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mponents needed to build 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tandard infantry rifl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orkers on an assembly line who woul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struct it. The North, eager to experi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illing to try anything that smack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f economic progress, decid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test the waters of this inviting ne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thod of manufactur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800, Jacquar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4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23960" y="114300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2598840" cy="1922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3"/>
          <a:stretch/>
        </p:blipFill>
        <p:spPr>
          <a:xfrm>
            <a:off x="2976480" y="3886200"/>
            <a:ext cx="3424320" cy="1922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4"/>
          <a:stretch/>
        </p:blipFill>
        <p:spPr>
          <a:xfrm>
            <a:off x="6172200" y="685800"/>
            <a:ext cx="259092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-i perfokaar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5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43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dustrialis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teke ja põllumajanduse meh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toritöö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5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Line 6"/>
          <p:cNvSpPr/>
          <p:nvPr/>
        </p:nvSpPr>
        <p:spPr>
          <a:xfrm flipV="1">
            <a:off x="1600200" y="11379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1600200" y="27432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917720" y="12412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1952640" y="12668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5715000" y="137160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486400" y="2081160"/>
            <a:ext cx="160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õllume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1600200" y="45720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reeform 13"/>
          <p:cNvSpPr/>
          <p:nvPr/>
        </p:nvSpPr>
        <p:spPr>
          <a:xfrm>
            <a:off x="1917720" y="30700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Freeform 14"/>
          <p:cNvSpPr/>
          <p:nvPr/>
        </p:nvSpPr>
        <p:spPr>
          <a:xfrm>
            <a:off x="1954080" y="30956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5715000" y="3200400"/>
            <a:ext cx="2103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486400" y="390996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7"/>
          <p:cNvSpPr/>
          <p:nvPr/>
        </p:nvSpPr>
        <p:spPr>
          <a:xfrm flipV="1">
            <a:off x="1600200" y="29667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Freeform 18"/>
          <p:cNvSpPr/>
          <p:nvPr/>
        </p:nvSpPr>
        <p:spPr>
          <a:xfrm>
            <a:off x="1689120" y="480060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19"/>
          <p:cNvSpPr/>
          <p:nvPr/>
        </p:nvSpPr>
        <p:spPr>
          <a:xfrm>
            <a:off x="1725480" y="482436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5486400" y="4930920"/>
            <a:ext cx="5698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5257800" y="5640480"/>
            <a:ext cx="2308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1600200" y="64008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23"/>
          <p:cNvSpPr/>
          <p:nvPr/>
        </p:nvSpPr>
        <p:spPr>
          <a:xfrm flipV="1">
            <a:off x="1600200" y="47955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305920" cy="805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 ja arvutiteaduse sünd: null - teine maailmasõ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rane rehkendamise ajalug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mise teoori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arvutid 17 sajandi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strialiseerimise ideoloog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maldav tehnoloogia: side ja mehaaniline infotöötl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ja arvutamise teooria väljaarenemine 20 sajandi esimesel pool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võimsad arvutid teises maailmasõja paik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5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22: Difference Engine, jäi poolel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e: Analytical Eng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 programmeerija: Ada Lovel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8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1117440" y="1793880"/>
            <a:ext cx="2540160" cy="3387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5384880" y="1793880"/>
            <a:ext cx="2539800" cy="300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: difference eng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8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685800" y="841320"/>
            <a:ext cx="2743200" cy="2130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2"/>
          <a:stretch/>
        </p:blipFill>
        <p:spPr>
          <a:xfrm>
            <a:off x="1193760" y="32004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3"/>
          <a:stretch/>
        </p:blipFill>
        <p:spPr>
          <a:xfrm>
            <a:off x="5257800" y="914400"/>
            <a:ext cx="349884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legraa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8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rse 1837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ktritelegraa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atstone 1857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perfoli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 perfoli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2-1910: teleprin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9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8" name="Picture 6" descr=""/>
          <p:cNvPicPr/>
          <p:nvPr/>
        </p:nvPicPr>
        <p:blipFill>
          <a:blip r:embed="rId1"/>
          <a:stretch/>
        </p:blipFill>
        <p:spPr>
          <a:xfrm>
            <a:off x="2743200" y="1319040"/>
            <a:ext cx="3174840" cy="1500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174840" cy="533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3"/>
          <a:stretch/>
        </p:blipFill>
        <p:spPr>
          <a:xfrm>
            <a:off x="4800600" y="4456080"/>
            <a:ext cx="3174840" cy="125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orge Boole, de Morga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(lausearvutuse) alused 1847-185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se algebra ideede kasutamine loogika jao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algeb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A = A, 0A = 0, A+0 = A, A+1 = 1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+B = B+A, AB = BA, AA = A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0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katehted on funktsioonid tõeväärtustel T ja 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imkasutatud tehted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amp;     (ja e. kon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    (või e. dis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    (ei e. eitu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&gt;  (järeldus e. implika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=   (samasus e. ekvivalent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A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     --------     ----      -------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0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tehetest saab kokku panna suvalisi avaldisi, m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tõeväärtusfunktsioo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)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B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--------------------------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2         1            4            3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1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asaegse loogika alus: Gottlob Fre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1879: Kontseptuaalne notatsio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"Begriffsschrift"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b kaasaeg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edikaatarvut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Mihkel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A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Ants,Peeter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x, y, z jaoks: Isa(x,y) &amp; Isa(y,z) =&gt; Vanaisa(x,z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õesta, et eksisteerivad z, u nii et Vanaisa(z,u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 filosoofina: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ogits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1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Loogika mitmekesisus 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2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Line 6"/>
          <p:cNvSpPr/>
          <p:nvPr/>
        </p:nvSpPr>
        <p:spPr>
          <a:xfrm flipV="1">
            <a:off x="2895480" y="1058760"/>
            <a:ext cx="1800" cy="4283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2895480" y="5334120"/>
            <a:ext cx="4419720" cy="1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04920" y="4343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use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64960" y="3716280"/>
            <a:ext cx="24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ta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228600" y="2971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ktsioon jm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228600" y="2286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52280" y="16002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ema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2973240" y="914400"/>
            <a:ext cx="19051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bstrakts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AutoShape 14"/>
          <p:cNvSpPr/>
          <p:nvPr/>
        </p:nvSpPr>
        <p:spPr>
          <a:xfrm>
            <a:off x="6171840" y="4800600"/>
            <a:ext cx="29185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jendusvahe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2438280" y="5410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imaal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327672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uitsionistl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42670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5257800" y="580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aal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601992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eaar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20"/>
          <p:cNvSpPr/>
          <p:nvPr/>
        </p:nvSpPr>
        <p:spPr>
          <a:xfrm>
            <a:off x="2924280" y="4390920"/>
            <a:ext cx="3012840" cy="930240"/>
          </a:xfrm>
          <a:custGeom>
            <a:avLst/>
            <a:gdLst/>
            <a:ahLst/>
            <a:rect l="l" t="t" r="r" b="b"/>
            <a:pathLst>
              <a:path w="8371" h="2582">
                <a:moveTo>
                  <a:pt x="0" y="0"/>
                </a:moveTo>
                <a:cubicBezTo>
                  <a:pt x="427" y="70"/>
                  <a:pt x="873" y="83"/>
                  <a:pt x="1287" y="216"/>
                </a:cubicBezTo>
                <a:cubicBezTo>
                  <a:pt x="1442" y="264"/>
                  <a:pt x="1874" y="414"/>
                  <a:pt x="2072" y="432"/>
                </a:cubicBezTo>
                <a:cubicBezTo>
                  <a:pt x="2623" y="480"/>
                  <a:pt x="4753" y="555"/>
                  <a:pt x="5150" y="573"/>
                </a:cubicBezTo>
                <a:cubicBezTo>
                  <a:pt x="5631" y="529"/>
                  <a:pt x="6094" y="489"/>
                  <a:pt x="6579" y="467"/>
                </a:cubicBezTo>
                <a:cubicBezTo>
                  <a:pt x="7210" y="507"/>
                  <a:pt x="7426" y="595"/>
                  <a:pt x="7942" y="895"/>
                </a:cubicBezTo>
                <a:cubicBezTo>
                  <a:pt x="8034" y="1041"/>
                  <a:pt x="8034" y="1160"/>
                  <a:pt x="8083" y="1328"/>
                </a:cubicBezTo>
                <a:cubicBezTo>
                  <a:pt x="8127" y="1482"/>
                  <a:pt x="8158" y="1478"/>
                  <a:pt x="8189" y="1610"/>
                </a:cubicBezTo>
                <a:cubicBezTo>
                  <a:pt x="8255" y="1883"/>
                  <a:pt x="8281" y="2166"/>
                  <a:pt x="8370" y="2435"/>
                </a:cubicBezTo>
                <a:cubicBezTo>
                  <a:pt x="8356" y="2483"/>
                  <a:pt x="8334" y="2581"/>
                  <a:pt x="8334" y="258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21"/>
          <p:cNvSpPr/>
          <p:nvPr/>
        </p:nvSpPr>
        <p:spPr>
          <a:xfrm>
            <a:off x="2954160" y="4765680"/>
            <a:ext cx="174960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endu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22"/>
          <p:cNvSpPr/>
          <p:nvPr/>
        </p:nvSpPr>
        <p:spPr>
          <a:xfrm>
            <a:off x="2884320" y="2281320"/>
            <a:ext cx="3351240" cy="3024000"/>
          </a:xfrm>
          <a:custGeom>
            <a:avLst/>
            <a:gdLst/>
            <a:ahLst/>
            <a:rect l="l" t="t" r="r" b="b"/>
            <a:pathLst>
              <a:path w="9307" h="8402">
                <a:moveTo>
                  <a:pt x="0" y="101"/>
                </a:moveTo>
                <a:cubicBezTo>
                  <a:pt x="833" y="0"/>
                  <a:pt x="1623" y="167"/>
                  <a:pt x="2434" y="317"/>
                </a:cubicBezTo>
                <a:cubicBezTo>
                  <a:pt x="3373" y="489"/>
                  <a:pt x="4436" y="432"/>
                  <a:pt x="5332" y="780"/>
                </a:cubicBezTo>
                <a:cubicBezTo>
                  <a:pt x="5557" y="961"/>
                  <a:pt x="5962" y="1212"/>
                  <a:pt x="6227" y="1318"/>
                </a:cubicBezTo>
                <a:cubicBezTo>
                  <a:pt x="6377" y="1380"/>
                  <a:pt x="6434" y="1384"/>
                  <a:pt x="6549" y="1499"/>
                </a:cubicBezTo>
                <a:cubicBezTo>
                  <a:pt x="6752" y="1702"/>
                  <a:pt x="6871" y="1953"/>
                  <a:pt x="7047" y="2178"/>
                </a:cubicBezTo>
                <a:cubicBezTo>
                  <a:pt x="7149" y="2628"/>
                  <a:pt x="6994" y="2055"/>
                  <a:pt x="7228" y="2535"/>
                </a:cubicBezTo>
                <a:cubicBezTo>
                  <a:pt x="7440" y="2967"/>
                  <a:pt x="6964" y="2421"/>
                  <a:pt x="7480" y="2928"/>
                </a:cubicBezTo>
                <a:cubicBezTo>
                  <a:pt x="7568" y="3157"/>
                  <a:pt x="7709" y="3250"/>
                  <a:pt x="7837" y="3466"/>
                </a:cubicBezTo>
                <a:cubicBezTo>
                  <a:pt x="7934" y="3629"/>
                  <a:pt x="7965" y="3792"/>
                  <a:pt x="8124" y="3894"/>
                </a:cubicBezTo>
                <a:cubicBezTo>
                  <a:pt x="8238" y="4132"/>
                  <a:pt x="8348" y="4361"/>
                  <a:pt x="8445" y="4608"/>
                </a:cubicBezTo>
                <a:cubicBezTo>
                  <a:pt x="8476" y="4846"/>
                  <a:pt x="8490" y="5053"/>
                  <a:pt x="8622" y="5256"/>
                </a:cubicBezTo>
                <a:cubicBezTo>
                  <a:pt x="8737" y="5807"/>
                  <a:pt x="8887" y="6354"/>
                  <a:pt x="9019" y="6901"/>
                </a:cubicBezTo>
                <a:cubicBezTo>
                  <a:pt x="9050" y="7258"/>
                  <a:pt x="9085" y="7629"/>
                  <a:pt x="9195" y="7973"/>
                </a:cubicBezTo>
                <a:cubicBezTo>
                  <a:pt x="9226" y="8065"/>
                  <a:pt x="9239" y="8167"/>
                  <a:pt x="9266" y="8259"/>
                </a:cubicBezTo>
                <a:cubicBezTo>
                  <a:pt x="9279" y="8308"/>
                  <a:pt x="9306" y="8401"/>
                  <a:pt x="9306" y="840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3124080" y="34290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uunaliselt lahendu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6705720" y="5791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monotoon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5029200" y="3886200"/>
            <a:ext cx="304920" cy="30492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26"/>
          <p:cNvSpPr/>
          <p:nvPr/>
        </p:nvSpPr>
        <p:spPr>
          <a:xfrm flipH="1">
            <a:off x="5249520" y="2209680"/>
            <a:ext cx="1235160" cy="1676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6400800" y="1143000"/>
            <a:ext cx="2446200" cy="10094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edikaatarvu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ollerith’i 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0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90: Herman Hollerith: perfokaartidega masin USA rahvaloenduse andmete töötle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llerith’i firmast tekki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B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5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3352680" y="1477800"/>
            <a:ext cx="2286000" cy="2408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342900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akumtor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5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Group 6"/>
          <p:cNvGrpSpPr/>
          <p:nvPr/>
        </p:nvGrpSpPr>
        <p:grpSpPr>
          <a:xfrm>
            <a:off x="685800" y="685800"/>
            <a:ext cx="6399360" cy="2589120"/>
            <a:chOff x="685800" y="685800"/>
            <a:chExt cx="6399360" cy="2589120"/>
          </a:xfrm>
        </p:grpSpPr>
        <p:grpSp>
          <p:nvGrpSpPr>
            <p:cNvPr id="261" name="Group 7"/>
            <p:cNvGrpSpPr/>
            <p:nvPr/>
          </p:nvGrpSpPr>
          <p:grpSpPr>
            <a:xfrm>
              <a:off x="685800" y="838080"/>
              <a:ext cx="4494240" cy="1664640"/>
              <a:chOff x="685800" y="838080"/>
              <a:chExt cx="4494240" cy="1664640"/>
            </a:xfrm>
          </p:grpSpPr>
          <p:sp>
            <p:nvSpPr>
              <p:cNvPr id="262" name="AutoShape 8"/>
              <p:cNvSpPr/>
              <p:nvPr/>
            </p:nvSpPr>
            <p:spPr>
              <a:xfrm>
                <a:off x="685800" y="838080"/>
                <a:ext cx="4494240" cy="159876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Text Box 9"/>
              <p:cNvSpPr/>
              <p:nvPr/>
            </p:nvSpPr>
            <p:spPr>
              <a:xfrm>
                <a:off x="685800" y="838080"/>
                <a:ext cx="449424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8040" indent="-33804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宋体"/>
                  </a:rPr>
                  <a:t> (1906, Lee Deforest)</a:t>
                </a:r>
                <a:r>
                  <a:rPr b="0" lang="ar-SA" sz="1800" spc="-1" strike="noStrike">
                    <a:solidFill>
                      <a:srgbClr val="0000ff"/>
                    </a:solidFill>
                    <a:latin typeface="Bitstream Vera San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64" name="Picture 10" descr=""/>
            <p:cNvPicPr/>
            <p:nvPr/>
          </p:nvPicPr>
          <p:blipFill>
            <a:blip r:embed="rId1"/>
            <a:stretch/>
          </p:blipFill>
          <p:spPr>
            <a:xfrm>
              <a:off x="5867280" y="685800"/>
              <a:ext cx="1217880" cy="25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Group 11"/>
          <p:cNvGrpSpPr/>
          <p:nvPr/>
        </p:nvGrpSpPr>
        <p:grpSpPr>
          <a:xfrm>
            <a:off x="380880" y="3505320"/>
            <a:ext cx="8533080" cy="3139920"/>
            <a:chOff x="380880" y="3505320"/>
            <a:chExt cx="8533080" cy="3139920"/>
          </a:xfrm>
        </p:grpSpPr>
        <p:grpSp>
          <p:nvGrpSpPr>
            <p:cNvPr id="266" name="Group 12"/>
            <p:cNvGrpSpPr/>
            <p:nvPr/>
          </p:nvGrpSpPr>
          <p:grpSpPr>
            <a:xfrm>
              <a:off x="380880" y="3751200"/>
              <a:ext cx="4951440" cy="2894040"/>
              <a:chOff x="380880" y="3751200"/>
              <a:chExt cx="4951440" cy="2894040"/>
            </a:xfrm>
          </p:grpSpPr>
          <p:sp>
            <p:nvSpPr>
              <p:cNvPr id="267" name="AutoShape 13"/>
              <p:cNvSpPr/>
              <p:nvPr/>
            </p:nvSpPr>
            <p:spPr>
              <a:xfrm>
                <a:off x="380880" y="3751200"/>
                <a:ext cx="4951440" cy="28940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Text Box 14"/>
              <p:cNvSpPr/>
              <p:nvPr/>
            </p:nvSpPr>
            <p:spPr>
              <a:xfrm>
                <a:off x="380880" y="3751200"/>
                <a:ext cx="495144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8040" indent="-33804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emits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receives the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15"/>
            <p:cNvGrpSpPr/>
            <p:nvPr/>
          </p:nvGrpSpPr>
          <p:grpSpPr>
            <a:xfrm>
              <a:off x="7010280" y="3505320"/>
              <a:ext cx="1903680" cy="2556360"/>
              <a:chOff x="7010280" y="3505320"/>
              <a:chExt cx="1903680" cy="2556360"/>
            </a:xfrm>
          </p:grpSpPr>
          <p:pic>
            <p:nvPicPr>
              <p:cNvPr id="270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505320"/>
                <a:ext cx="1751040" cy="25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Text Box 17"/>
              <p:cNvSpPr/>
              <p:nvPr/>
            </p:nvSpPr>
            <p:spPr>
              <a:xfrm>
                <a:off x="7061040" y="5860800"/>
                <a:ext cx="10652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ath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Text Box 18"/>
              <p:cNvSpPr/>
              <p:nvPr/>
            </p:nvSpPr>
            <p:spPr>
              <a:xfrm>
                <a:off x="8102520" y="3509640"/>
                <a:ext cx="8114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n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Text Box 19"/>
              <p:cNvSpPr/>
              <p:nvPr/>
            </p:nvSpPr>
            <p:spPr>
              <a:xfrm>
                <a:off x="7010280" y="3566880"/>
                <a:ext cx="53208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Gri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d kontidel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riood 20,000 - 30,000 aastat tagasi Cro-Magn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imese ilm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: positsiooniline 60-süsteem 1900 kuni 18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iade arvu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l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3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ia 600 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ak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1,000 BC kuni 500 BC,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5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047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gateooria: Georg Canto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 1845-191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teooria rajaj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e avastamine matemaatik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korraga ebakindl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7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ussell &amp; Whitehe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1910-1913: massiivne loogikatraktaa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incipia Mathematic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aradoksid -&gt; tüüpide teeori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losoofilised vaated: logitsis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8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lism; Hilber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 ja matemaatik: 1862-1943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losoofilistelt vaadetelt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ormal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ilberti program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” matemaatikale kindlate aluste rajamis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ka alused tuleb esitada loogika keeles, range aksiomaatikana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leb tõestada, et nimetatud aksiomaatika ei ole vastuoluline, st temast ei ole võimalik tuletada korraga mingit väidet A ja sellesama väite eitust  -A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8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uitsionism: Brouwer &amp; Heyt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99920" y="7621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i aktsepteeri näiteks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 v -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-A &lt;=&gt; 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(((A =&gt; B) =&gt; A) =&gt;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A)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9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al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ski ja Carnap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uletamisreeglite süste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9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ielikkus ja mittetäielikk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t Gödel (1906-1978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0: loogika baaskeel predikaatarvutus on täiel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1: formaalne aritmeetika ei ole täielik, seda ei saagi lõpliku formaalse süsteemiga kirjeld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õestuse ide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õestuse alusidee on tuntud valetaja paradoks: kas väide ``ma praegu valetan'' on tõene või mitte? Lihtne arutlus näitab, et ta ei saa olla kumbagi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ostame nüüd sellise aritmeetilise väite A, mis ütleb, et seesama A ei ole tõestatav (see väide ei ütle, et A ei ole tõsi!). Siis ei saa väide A ise olla vale. Tõepoolest, kui A oleks vale, siis A sisu kohaselt peaks A olema tõestatav. Kuna me valesid väiteid tõestada ei saa, siib peabki A olema õige. Kuna A on õige, peab kehtima see, mida A väidab: A pole tõestatav. Tõepoolest, kui A oleks tõestatav, siis oleks A sisu ("A ei ole tõestatav") vale, see on aga, nagu näidatud, võimatu. Kokkuvõtteks, A on õige, aga ei A ega A eitus pole tõestatava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0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Turingi masin &amp; Churchi lambda-arvutus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5-1937: artikk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masinast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6: Church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mbda-arvut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hurchi te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0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9" name="Picture 6" descr=""/>
          <p:cNvPicPr/>
          <p:nvPr/>
        </p:nvPicPr>
        <p:blipFill>
          <a:blip r:embed="rId1"/>
          <a:stretch/>
        </p:blipFill>
        <p:spPr>
          <a:xfrm>
            <a:off x="3454560" y="1952640"/>
            <a:ext cx="2286000" cy="26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nnevar Bus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IT: 1930-1935-1937: Differential Analyzer dif. võrrandite lahendamisek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iimane versioon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alus 100 ton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000 elektronlamp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50 mootor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d rele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1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udwig Wittgenste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89-195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üütilise filosoofia juhtku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nustas loogilise positivismi ja Viini ringi tek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testatud tekst koosneb kas (a) loogika ja matemaatika formaalsetest väidetest või (b) konkreetsete teadusharude fakte esitavatest lausetes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sel fakti esitaval väitel on sisu ainult siis, kui on võimalik öelda, kuidas selle väite kehtivust kontrollid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tafüüsilised väited, mis ei lange punktide 1 ja 2 alla, on sisu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moraali, esteetikat ja religiooni käsitlevad väited on mittekontrollitavad ja mõtte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1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laude Shann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, 1938, Shannon’i magistritöö si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oole algeb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ilülitid ja -sk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tid ja info kod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 otsimise algorit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2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5" name="Picture 6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809880" cy="344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olem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sest kreeka keelest sõnast λόγος (logos), algtähendusega sõna ehk mida räägitaks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on teadus mõtlemise aluste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uurib mõtlemise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paratamatu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spekte ehk seda, mis üldse teeb mõtlemisest mõtlemise ehk õige mõtlemise ehk seda, mida ja kuidas üldse mõelda saa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alne loogika: teatud vaidlusmeetodite analüü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ne loogik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 ja algoritmid nö mehaaniliseks järelduste tegemise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e kui matemaatiliste objektide uurim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d on mõtlemise masin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6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2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714240" y="685800"/>
            <a:ext cx="4543560" cy="2743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8"/>
          <p:cNvSpPr/>
          <p:nvPr/>
        </p:nvSpPr>
        <p:spPr>
          <a:xfrm>
            <a:off x="1143000" y="4572000"/>
            <a:ext cx="51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onrad Zu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tavate arvutite pioneer saksamaa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36-38: Z1: puhtmehaanil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38: Z2: rehkendus releedeg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41: Z3 perfolindiga, universaalselt programmeeritav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44-50: Z4: kommertsiaalne digitaalarvuti Zürichi tehnikaülikoolile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1560" indent="-2271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leedega rehkend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1560" indent="-2271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haaniline mäl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50-1967: Z5 ... Z64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y 1967, the Zuse KG had built a total of 251 computers. Due to financial problems, the company was then sold to Sieme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3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tanasoff’i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ohn Vincent Atanasof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2: esimene elektronarvuti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4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4" name="Picture 6" descr=""/>
          <p:cNvPicPr/>
          <p:nvPr/>
        </p:nvPicPr>
        <p:blipFill>
          <a:blip r:embed="rId1"/>
          <a:stretch/>
        </p:blipFill>
        <p:spPr>
          <a:xfrm>
            <a:off x="1467000" y="1371600"/>
            <a:ext cx="6076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orden bombsigh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4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0" name="Picture 6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191120" cy="531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nigma, Geheimfernschreiber ja Lorenz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igma: alates 1920 aastat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renz SZ 40 and SZ 42 ja  Geheimfernschreiber: Saksa lennu- ja mereväg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5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6" name="Picture 6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292560" cy="3200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"/>
          <p:cNvPicPr/>
          <p:nvPr/>
        </p:nvPicPr>
        <p:blipFill>
          <a:blip r:embed="rId3"/>
          <a:stretch/>
        </p:blipFill>
        <p:spPr>
          <a:xfrm>
            <a:off x="5130720" y="1473120"/>
            <a:ext cx="3556080" cy="264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lossus vs Loren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ndonis 1943: saksa allveelaevade salakirja dekodeeri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00 elektronlam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oloogia ja matemaatika: olulises osas Alan Turin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6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4" name="Picture 6" descr=""/>
          <p:cNvPicPr/>
          <p:nvPr/>
        </p:nvPicPr>
        <p:blipFill>
          <a:blip r:embed="rId1"/>
          <a:stretch/>
        </p:blipFill>
        <p:spPr>
          <a:xfrm>
            <a:off x="853920" y="2286000"/>
            <a:ext cx="3718080" cy="2971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4165560" y="4114800"/>
            <a:ext cx="4064040" cy="219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rk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ard Aike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’i elektriline (releed) digitaalne arvuti MARK 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750.000 komponen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5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6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647960" cy="313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ukes: massive comp necessary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5335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s atomic bomb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7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7" name="Picture 6" descr=""/>
          <p:cNvPicPr/>
          <p:nvPr/>
        </p:nvPicPr>
        <p:blipFill>
          <a:blip r:embed="rId1"/>
          <a:stretch/>
        </p:blipFill>
        <p:spPr>
          <a:xfrm>
            <a:off x="2679840" y="1434960"/>
            <a:ext cx="3722400" cy="473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irst operative digital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8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Text Box 6"/>
          <p:cNvSpPr/>
          <p:nvPr/>
        </p:nvSpPr>
        <p:spPr>
          <a:xfrm>
            <a:off x="1600200" y="1600200"/>
            <a:ext cx="2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4" name="Object 7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686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a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2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Fundamentaalseid mõtlemismeetode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n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atemaatika sissetulek: muutuja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ausemuutuja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 ja B, siis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i ole tõsi, et A ja mitte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-st järeldub B, ning A on tõsi, siis ka B on tõsi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Omadus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kõigil asjadel on omadus P, siis on olemas asi, millel on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???  Kui on olemas asi, millel on omadus P, siis on kõigil asjadel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7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menides (5 sajand e.m.a.) : kasutas pikki loogilisi põhjendus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Zenon Eleast (5 sajand e.m.a.)  - apooriad/paradok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fistid -  Sokrates (470-399 e.m.a)  - Platon (428/427 - 348/347 e.m.a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ristoteles: väidete struktuur kui iseseisev uurimisobjek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7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14600" y="3146400"/>
            <a:ext cx="4572000" cy="302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: Aristote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llogismide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koer on imetaj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neljajalgsed on koera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neljajalgsed on imetaj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kõik luiged on valg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lind on luik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lind on valg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tuse struktuuri võib seega esitada muutujate x,y ja z abil ning tuletus on õige sõltumata fraasidest, millega neid muutujaid asend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x on y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z on x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z on 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8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istotelese “kategoorilised väited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ükski b p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ei 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süllogis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väitlus, kus mingitest etteantud väidetest (eeldustest) järeldub paratamatult uus väide. Aristotelese puhul alati kaks kategoorilist eeldust, üks kategooriline järeld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8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ikud: lause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oikud uurisid, kuidas saab loogiliste sidesõnade (ja, ei, või, kui...siis) abil lihtsamatest lausetest keerulisemaid kokku panna ja kuidas näidata selliselt moodustatud lausete õigsu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esimene; järelikult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((X -&gt; Y)  &amp;  X)  -&gt; 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mitte teine; järelikult mitte esime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((X -&gt; Y)  &amp;  -X)  -&gt;  -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9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 Tammet</dc:creator>
  <dc:description/>
  <dc:language>en-US</dc:language>
  <cp:lastModifiedBy>Tanel Tammet</cp:lastModifiedBy>
  <dcterms:modified xsi:type="dcterms:W3CDTF">2022-09-02T08:16:24Z</dcterms:modified>
  <cp:revision>4</cp:revision>
  <dc:subject/>
  <dc:title> </dc:title>
</cp:coreProperties>
</file>